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D2A-A4D3-4D02-BD8D-21168A66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8D6-B005-4101-9D0C-642C853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069-48E2-4AB3-8D57-5B6C4A84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151-E71B-429B-A4E3-0080389B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8BB0-CF30-43EA-B28E-D3AADF9F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4A7B-235B-4F06-8872-A32C4494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E4A7-4498-424A-9C19-408EFFB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31F2-0BD9-4FF8-AD5E-8DF36D59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D8E7-3349-452B-B471-0A4EB5B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AE6F-9AA7-46FD-9D74-B5B96515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FDD-07C9-48F7-8CB6-AE1B02B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EAF-FD84-4387-8051-99D00F66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0B7E-1D59-4973-B189-93745C3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469-0D06-4A75-8702-F1B0950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5C9-EEBB-4673-A919-2305C66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3493-1A02-467E-B20E-F6B0E3A1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6B4E-774C-4789-9B18-BED4B590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463-B682-4943-A8B8-1D9DB8D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DA7-7FA1-4ACC-BF74-EBD2E35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D97-4203-45E8-9E0C-45E59E99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493-0E16-40CC-B794-53B968E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962-7C89-4114-B1F6-91673DBE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044-9124-4949-BD32-DFC9AF7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088-2CF8-4EE1-BA3D-6276968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A7AE-9224-406A-A704-AD1C8F0549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547E-FE7E-4AB5-87B7-118E28054D7B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america.edu.co/index.php?id=67/guiametogologica" TargetMode="External"/><Relationship Id="rId2" Type="http://schemas.openxmlformats.org/officeDocument/2006/relationships/hyperlink" Target="http://orton.catie.ac.cr/cgi-hin/wxis.exe/?IsisScript=AGRISUM.xis&amp;method=post&amp;formato=2&amp;cantidad=1&amp;expresion=mfn=00023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UNIVERSIDAD DE AMERICA</a:t>
            </a:r>
            <a:br>
              <a:rPr sz="4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GENIERÍA QUIMIC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2000" spc="-1" strike="noStrike">
                <a:solidFill>
                  <a:srgbClr val="660066"/>
                </a:solidFill>
                <a:latin typeface="Tahoma"/>
              </a:rPr>
              <a:t>27 al 31 de Enero de 2014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320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45472"/>
                </a:solidFill>
                <a:latin typeface="Tahoma"/>
              </a:rPr>
              <a:t>SEMINARIO DE PROYECTO DE GRAD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251320" y="6237360"/>
            <a:ext cx="39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COMITÉ DE PROYECTO DE GRA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IQ LEONARDO DE J. HERRERA G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Imagen 1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733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755640" y="333360"/>
            <a:ext cx="792972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"/>
              </a:rPr>
              <a:t>¿CÓMO RECONOCER QUE ES UN TEMA PERTINENTE DE INVESTIGACION EN IQ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XPERIMENT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ISEÑO DE INGENIERÍ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PROCESOS QUIMIC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BIOTECNOLOGIA, BIOQUIMI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ESARROLLOS DE SOFTWAR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Picture 4" descr="HM00361_"/>
          <p:cNvPicPr/>
          <p:nvPr/>
        </p:nvPicPr>
        <p:blipFill>
          <a:blip r:embed="rId1"/>
          <a:stretch/>
        </p:blipFill>
        <p:spPr>
          <a:xfrm>
            <a:off x="1905120" y="4343400"/>
            <a:ext cx="2057400" cy="1857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B01750_"/>
          <p:cNvPicPr/>
          <p:nvPr/>
        </p:nvPicPr>
        <p:blipFill>
          <a:blip r:embed="rId2"/>
          <a:stretch/>
        </p:blipFill>
        <p:spPr>
          <a:xfrm>
            <a:off x="5562720" y="2286000"/>
            <a:ext cx="2971800" cy="1189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284720" y="4005360"/>
            <a:ext cx="45352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CONTROL DE PROCES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NORMAS DE CAL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 INDUSTRI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S  SOCI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913800" cy="15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ÁREAS DE INGERENCIA</a:t>
            </a:r>
            <a:br>
              <a:rPr sz="4400"/>
            </a:b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(Algunos posibles campos de acción para desarrollar Proyectos de IQ)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PROCESOS </a:t>
            </a:r>
            <a:r>
              <a:rPr b="0" lang="es-ES_tradnl" sz="2600" spc="-1" strike="noStrike">
                <a:solidFill>
                  <a:srgbClr val="545472"/>
                </a:solidFill>
                <a:latin typeface="Tahoma"/>
              </a:rPr>
              <a:t>(Diagnósticos, Operación, Control, Sustitución de recursos, Mejoramiento, Normalización, Auditorías...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GESTIÓN DE CALIDAD </a:t>
            </a:r>
            <a:r>
              <a:rPr b="0" lang="es-ES_tradnl" sz="2600" spc="-1" strike="noStrike">
                <a:solidFill>
                  <a:srgbClr val="545472"/>
                </a:solidFill>
                <a:latin typeface="Tahoma"/>
              </a:rPr>
              <a:t>(Diagnósticos,Mejoramiento, Documentación, Auditorías, Sistemas, ISO 9000,...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APLICACIONES ESPECÍFICAS </a:t>
            </a:r>
            <a:r>
              <a:rPr b="0" lang="es-ES_tradnl" sz="2600" spc="-1" strike="noStrike">
                <a:solidFill>
                  <a:srgbClr val="545472"/>
                </a:solidFill>
                <a:latin typeface="Tahoma"/>
              </a:rPr>
              <a:t>(por ejemplo, Diseño de paquetes de Software,...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BPM, HAZZAP, HCCP..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5" name="Imagen 1" descr=""/>
          <p:cNvPicPr/>
          <p:nvPr/>
        </p:nvPicPr>
        <p:blipFill>
          <a:blip r:embed="rId5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FUENTE DE TEMAS DE PROYECT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2960" y="14997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roblemas del entorno industrial e instituciona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Mejoramiento de situaciones actuales en la industria o institucion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tinuación de investigaciones anteriores.(trabajos de grado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a profesores y profesionales de la industr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con el departamento de Investigación</a:t>
            </a:r>
            <a:r>
              <a:rPr b="1" lang="es-MX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8" name="Imagen 1" descr=""/>
          <p:cNvPicPr/>
          <p:nvPr/>
        </p:nvPicPr>
        <p:blipFill>
          <a:blip r:embed="rId6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3912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L PROYECTO DE GRADO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S UN PROCES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124080" y="2971800"/>
            <a:ext cx="2895840" cy="2209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2133720" y="3429000"/>
            <a:ext cx="9903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33720" y="4038480"/>
            <a:ext cx="9144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42900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0" y="2133720"/>
            <a:ext cx="0" cy="83808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556272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2209680" y="4724280"/>
            <a:ext cx="83844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380988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525780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6918840" y="34290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TITULO 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GENI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QUÍM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86360" y="1828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Proyectista(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971800" y="2057400"/>
            <a:ext cx="45720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621960" y="149868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COMITÉ D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PROYECT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5562720" y="20574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477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590520" y="18604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Orientad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Jurado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2130840" y="578628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669560" y="57913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Co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311040" y="34290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mpresa o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stitució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Spons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TRAER PARA LA PRIMERA SEMANA DE CLASE DE SEMINARIO VARIOS TEMAS EN BLANCO Y NEGRO PARA DISCUSIÓN EN CLASE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CPG IQ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3" name="5 Rectángulo"/>
          <p:cNvSpPr/>
          <p:nvPr/>
        </p:nvSpPr>
        <p:spPr>
          <a:xfrm>
            <a:off x="3491640" y="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45472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42960" y="856800"/>
            <a:ext cx="81043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Ramirez, A. (2009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Editorial Universidad javeriana. Bogota, Colombia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Saravia, M. (2010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PROBLEMAS DE INGENIERIA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Bueno Aires. Argentina. Editoriales Manantial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545472"/>
                </a:solidFill>
                <a:latin typeface="Tahoma"/>
              </a:rPr>
              <a:t>CIBERGRAFI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GUIA METODOLOGICA PARA ELABORACION DE PROYECTOS DE GRADO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Facultad de Ingenierías Universidad de América. (2010). Recuperado el 22 Abril de 2011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1"/>
              </a:rPr>
              <a:t>http://www.uamerica.edu.co/index.php?id=67/guiametogologica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LOS PROBLEMAS EN INGENIERIA. 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Hernandez, R. (2001) Recuperado en 22 de mayo de 2011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www.ie.itcr.ac.cr/.../El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Problem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en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ingenierí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No.3.ppt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IDENTIFICACION DE PROBLEMAS EN LA INDUSTRIA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Puis, D. (2005). Instituto Tecnológico y de Estudios Superiores de Monterrey. Recuperado el 12 Mayo de 2011, de  </a:t>
            </a:r>
            <a:r>
              <a:rPr b="0" lang="es-ES" sz="1600" spc="-1" strike="noStrike" u="sng">
                <a:solidFill>
                  <a:srgbClr val="545472"/>
                </a:solidFill>
                <a:uFillTx/>
                <a:latin typeface="Tahoma"/>
              </a:rPr>
              <a:t>http://www.aie.cl/files/file/comites/ca/articulos/diciembre-05.pdf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5" name="Imagen 1" descr=""/>
          <p:cNvPicPr/>
          <p:nvPr/>
        </p:nvPicPr>
        <p:blipFill>
          <a:blip r:embed="rId4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6" name="5 Rectángulo"/>
          <p:cNvSpPr/>
          <p:nvPr/>
        </p:nvSpPr>
        <p:spPr>
          <a:xfrm>
            <a:off x="2737440" y="2142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545472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532764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660066"/>
                </a:solidFill>
                <a:latin typeface="Tahoma"/>
              </a:rPr>
              <a:t>FIN DE LA PRESENT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8" name="Picture 3" descr="J0186164"/>
          <p:cNvPicPr/>
          <p:nvPr/>
        </p:nvPicPr>
        <p:blipFill>
          <a:blip r:embed="rId1"/>
          <a:stretch/>
        </p:blipFill>
        <p:spPr>
          <a:xfrm>
            <a:off x="990720" y="2666880"/>
            <a:ext cx="2209680" cy="3810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4038480" y="2133720"/>
            <a:ext cx="4419720" cy="1600200"/>
          </a:xfrm>
          <a:prstGeom prst="wedgeRoundRectCallout">
            <a:avLst>
              <a:gd name="adj1" fmla="val -66162"/>
              <a:gd name="adj2" fmla="val 39087"/>
              <a:gd name="adj3" fmla="val 1666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¡ Muchas GRACIA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por la aten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y por su tiempo 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714680"/>
            <a:ext cx="7696080" cy="387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PRESENTACION DEL SYLLABVS DE LA ASIGNATUR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ELEMENTOS A TENER EN CUENTA PARA EL DESARROLLO DEL PROYECTO DE GRADO (ING. LEONARDO HERRER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PRESENTACION DE LOS INTEGRANTES DEL COMIT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CRONOGRAMA DE ACTIVIDADES DEL SEMINARIO (ING. DUQUEIRO BONILL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PRESENTACION DE LOS TEMAS POR PARTE DE LOS ESTUDIANT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OBJETIVOS DE LA REUN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571840"/>
            <a:ext cx="7696080" cy="4084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El trabajo de grado es una aplicación teórico -practica (investigación) de los conocimientos , destrezas  y competencias adquiridas durante el proceso de formación profesional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sirve para el análisis de casos de investigación, solución de problemas de la industria y aprovechamiento de oportunidade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Es una oportunidad para que los estudiantes evalúen los conocimientos adquiridos y los pongas en práctic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Es una de las modalidades para optar por el título profesional de los diferentes programas ofrecidos por la Universi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Orientado por el comité de proyectos de grad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6. Desarrollado bajo las normas de la Institición y de las normas ICONTEC  vigentes.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PROYECTO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520" y="2500200"/>
            <a:ext cx="7767720" cy="2857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Órgano colegiado constituido por docentes y profesionales idóneos y con la experticia para orientar y dirigir las diferentes etapas del proceso investigativo del proyect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propende por el cumplimiento y desarrollo de los objetivos de las asignaturas de seminario de proyecto de grado y trabaj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COMITÉ DE PROYECTOS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836640"/>
            <a:ext cx="65498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ETAPAS DEL PROYECTO DE GRAD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28800" y="2322360"/>
            <a:ext cx="73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PLANEACION: SEMINARIO DE PROYECTO DE GRADO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2.   EJECUCION: TRABAJO DE GRAD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3.  ENTREGRA: SUSTENTACION, CORRECCIONES Y GRADUAC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PROYECTO DE GRADO COMO UN PROCESO TECNICO-ADMINISTRATIV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1981080"/>
            <a:ext cx="8153280" cy="4496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29000" y="2133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352680" y="2209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CONCEPCIÓN DE LA IDE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52680" y="29718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DEFINICIÓN DEL TEM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352680" y="38862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STRUCTURAR PROPUES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352680" y="47242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LABORAR ANTE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352680" y="5638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JECUCIÓN 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943600" y="2666880"/>
            <a:ext cx="0" cy="3049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943600" y="6095880"/>
            <a:ext cx="0" cy="5335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2819160" y="5867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819520" y="2438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819520" y="2437920"/>
            <a:ext cx="0" cy="34290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819520" y="41148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8088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45472"/>
                </a:solidFill>
                <a:latin typeface="Verdana"/>
              </a:rPr>
              <a:t>Planeación y Program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43040" y="528336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45472"/>
                </a:solidFill>
                <a:latin typeface="Verdana"/>
              </a:rPr>
              <a:t>Desarroll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45472"/>
                </a:solidFill>
                <a:latin typeface="Verdana"/>
              </a:rPr>
              <a:t>y Contro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914400" y="510552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838080" y="632448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914400" y="213372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1523880" y="60199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29"/>
          <p:cNvSpPr/>
          <p:nvPr/>
        </p:nvSpPr>
        <p:spPr>
          <a:xfrm flipV="1">
            <a:off x="1523880" y="2133720"/>
            <a:ext cx="0" cy="12952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1523880" y="4267080"/>
            <a:ext cx="0" cy="7621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918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VALORES AGREG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3" name="Picture 3" descr="IDEA"/>
          <p:cNvPicPr/>
          <p:nvPr/>
        </p:nvPicPr>
        <p:blipFill>
          <a:blip r:embed="rId1"/>
          <a:stretch/>
        </p:blipFill>
        <p:spPr>
          <a:xfrm>
            <a:off x="1752480" y="2666880"/>
            <a:ext cx="1295640" cy="3935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3419640" y="2590920"/>
            <a:ext cx="572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me gust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quiero hacer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En qué quiero destacarme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fortalezas tengo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recursos tengo disponibles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Cuál es la disciplina profesional preferid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Lo desarroll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sólo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 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en compañía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? (Con quién?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14400" y="10666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una valiosa oportunidad para profundizar en los temas y aspectos de formación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la carta de presentación para ingresar al mundo laboral y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6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MANERAS DE REALIZAR UN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516720" y="1989000"/>
            <a:ext cx="2133720" cy="2057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 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CELEN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611280" y="1989000"/>
            <a:ext cx="2133360" cy="2057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0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s-ES_tradnl" sz="18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3348000" y="2060640"/>
            <a:ext cx="228600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ACTORI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286680" y="4143240"/>
            <a:ext cx="264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DESTACARS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novar en   la indust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alidad en la Investig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ortes profesionale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Valor agregado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71680" y="4143240"/>
            <a:ext cx="2603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Times New Roman"/>
              </a:rPr>
              <a:t>APROBAR  S Y T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Asistir a clas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Traer tem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Sustentar anteproyect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Cumplir con fech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14800" y="4143240"/>
            <a:ext cx="3000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APROVECHAR OPORTUNIDA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vestigar y profundiza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Participar en los talle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licar los conocimiento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onsultar con los orientado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LA CONCEPCION Y DEFINICION DE  LOS TEM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Se concibe la idea  y se hace una evaluación preliminar de su factibilidad  partiendo de problemas, investigaciones,  soluciones técnicas y oportunidade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novedos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útil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Responde a una necesidad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xisten recursos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ret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A quienes interesaría? ¿Puedo obtener soporte técnic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pertinente, actual e innov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¿Cuál es el área  académica en que se desarrollará la investigación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Imagen 1" descr=""/>
          <p:cNvPicPr/>
          <p:nvPr/>
        </p:nvPicPr>
        <p:blipFill>
          <a:blip r:embed="rId10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58:31Z</dcterms:created>
  <dc:creator>Julio César Fuentes Arismendi</dc:creator>
  <dc:description>Presentación motivacional a los estudiantes del 8o. semestre el 11 Nov. 2005</dc:description>
  <dc:language>en-US</dc:language>
  <cp:lastModifiedBy>Sala Docentes</cp:lastModifiedBy>
  <dcterms:modified xsi:type="dcterms:W3CDTF">2014-01-29T20:19:04Z</dcterms:modified>
  <cp:revision>70</cp:revision>
  <dc:subject/>
  <dc:title>EL ANTEPROYECTO DE GRADO</dc:title>
</cp:coreProperties>
</file>